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38EB-C81E-4401-B37E-DD6E6EE6A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AE34-E007-4116-931E-957A24D9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C2EC-7E9E-4F21-862F-7C78F1F2A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5D84-F8D5-406A-B3A2-4466F6C15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91F7-64C6-43CE-B23C-56AAD2E4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C0CE-1799-4994-A6EA-2F1F0BFC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296A-592C-4693-9AA2-5D87E01E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B51A-CD36-4044-86A3-015788EA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54EC-DC4C-40A0-BCF3-F44E2C17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EB32-7E12-4385-92B5-E5081A8C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D25C-26F3-42D6-8A45-AC065E7E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139C-A000-4AD6-AC0A-E1FF7496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A8EE-E5E4-459D-BE83-F9DD10501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.uk/url?sa=i&amp;rct=j&amp;q=&amp;esrc=s&amp;frm=1&amp;source=images&amp;cd=&amp;cad=rja&amp;docid=pR-3prhnnDs35M&amp;tbnid=pCBAFCqV7JkjOM:&amp;ved=0CAUQjRw&amp;url=http%3A%2F%2Fpremieraccountsblog.com%2F2013%2F04%2Fwellness-incentives-make-it-happen-by-making-it-rewarding%2Fcarrot-and-stick-incentive1%2F&amp;ei=-MMdUvS1CuXK0AXpmYGgCA&amp;bvm=bv.51156542,d.d2k&amp;psig=AFQjCNEy2Z5HoBhNQRw2RQPk2I5CtFPK8Q&amp;ust=1377768792674162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www.google.co.uk/url?sa=i&amp;rct=j&amp;q=&amp;esrc=s&amp;frm=1&amp;source=images&amp;cd=&amp;cad=rja&amp;docid=fBpYMLyYLEK18M&amp;tbnid=u1oiZ-jOhQX19M:&amp;ved=0CAUQjRw&amp;url=http%3A%2F%2Fwww.scoopempire.com%2Fpost%2F2012%2F12%2F09%2FMarias-note-Morsis-Carrot-and-Stick-and-Stick-and-Stick-Approach.aspx&amp;ei=F8UdUpaqIpD70gX4q4CgDA&amp;bvm=bv.51156542,d.d2k&amp;psig=AFQjCNEy2Z5HoBhNQRw2RQPk2I5CtFPK8Q&amp;ust=1377768792674162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.uk/url?sa=i&amp;rct=j&amp;q=&amp;esrc=s&amp;frm=1&amp;source=images&amp;cd=&amp;cad=rja&amp;docid=uzJs63IFAT-l4M&amp;tbnid=nFWVVwyorkKq6M:&amp;ved=0CAUQjRw&amp;url=http%3A%2F%2Fwww.51allout.co.uk%2F2013-02-06-ipl-2013-its-crazy-time%2Fmoney%2F&amp;ei=q8UdUqSeOKzO0wWIxIHACQ&amp;bvm=bv.51156542,d.d2k&amp;psig=AFQjCNFJAibB47eCwhb5f4lAm4SRJGpeRA&amp;ust=1377769256432599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.uk/url?sa=i&amp;rct=j&amp;q=&amp;esrc=s&amp;frm=1&amp;source=images&amp;cd=&amp;cad=rja&amp;docid=XjXRK5DUhcObCM&amp;tbnid=REyrCdY_XHRkDM:&amp;ved=0CAUQjRw&amp;url=http%3A%2F%2Fwww.wisegeek.org%2Fwhat-are-pros-and-cons.htm&amp;ei=UcUdUvqhNqOa0QXgmIHIDA&amp;bvm=bv.51156542,d.d2k&amp;psig=AFQjCNFixYZiwqoxUhihaM2_dkcE4MkG2A&amp;ust=1377769166746102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.uk/url?sa=i&amp;rct=j&amp;q=&amp;esrc=s&amp;frm=1&amp;source=images&amp;cd=&amp;cad=rja&amp;docid=myACOzuVROXnaM&amp;tbnid=BswMkec5PMTQoM:&amp;ved=0CAUQjRw&amp;url=http%3A%2F%2Ffrmarkdwhite.wordpress.com%2F2009%2F10%2F11%2Fof-the-weekend%2F&amp;ei=ZMYdUvnsIMqd0AWnvYHwCg&amp;bvm=bv.51156542,d.d2k&amp;psig=AFQjCNH17I-unNtd9axbYAEPKVjMAErzaA&amp;ust=1377769440620316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o.uk/url?sa=i&amp;rct=j&amp;q=&amp;esrc=s&amp;frm=1&amp;source=images&amp;cd=&amp;cad=rja&amp;docid=xsbhiMrL6tAGVM&amp;tbnid=YKdrzovqtwc2hM:&amp;ved=0CAUQjRw&amp;url=http%3A%2F%2Fwww.123rf.com%2Fphoto_13955804_box-with-question-mark-icons.html&amp;ei=R8cdUsCEDoeN0AXf7IDwAg&amp;bvm=bv.51156542,d.d2k&amp;psig=AFQjCNFAA1UNpz1XByzLMVlnLONCJ7hHnw&amp;ust=1377769666792958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Aftermath of the 1905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Du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The Fundamental laws had made it clear that Tsar Nicholas controlled the Du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GB" sz="2800" spc="-1" strike="noStrike" baseline="30000">
                <a:solidFill>
                  <a:srgbClr val="333399"/>
                </a:solidFill>
                <a:latin typeface="Comic Sans MS"/>
              </a:rPr>
              <a:t>st</a:t>
            </a: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 Duma met in May 1906 dominated by Liberals but 200 peasant representatives – lasted 2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GB" sz="2800" spc="-1" strike="noStrike" baseline="30000">
                <a:solidFill>
                  <a:srgbClr val="333399"/>
                </a:solidFill>
                <a:latin typeface="Comic Sans MS"/>
              </a:rPr>
              <a:t>nd</a:t>
            </a: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 Duma elected in 1907 with revolutionaries standing for election – lasted 5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Nicholas changed the voting system and the 1907 Duma la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5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356000" y="5362560"/>
            <a:ext cx="478800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tolypin and his Re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59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Peter Stolypin was appointed by Nicholas in 19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He believed in a strict government – is approach has been described as “carrot and stick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He clamped down on the revolutionaries by arresting and executing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This earned the hangman’s noose the name “Stolypin’s neckti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133720"/>
            <a:ext cx="2695680" cy="4038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5280" y="1628640"/>
            <a:ext cx="84978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omic Sans MS"/>
              </a:rPr>
              <a:t>To control the peasants he introduced land re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omic Sans MS"/>
              </a:rPr>
              <a:t>Redemption payments for the peasants land were abolished so too were the M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omic Sans MS"/>
              </a:rPr>
              <a:t>The idea was hard working peasants would own their own farms so increase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omic Sans MS"/>
              </a:rPr>
              <a:t>This would make them rich and they would want pe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omic Sans MS"/>
              </a:rPr>
              <a:t>By 1914 over 2M peasants owned their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omic Sans MS"/>
              </a:rPr>
              <a:t>Industrial reform under Stolypin increased production of coal, iron, steel and co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280" y="-316080"/>
            <a:ext cx="9072720" cy="77058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8000" y="2204640"/>
            <a:ext cx="397044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No more paying for your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Opportunity to own and improve your fa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Increased industrial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59280" y="1197000"/>
            <a:ext cx="4033800" cy="61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Only wealthier peasants (Kulaks) could afford to buy enough land to support their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Farming continues to be in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Russian economy still weaker other European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the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The Treaty of Portsmouth was signed with Japan in September 19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Tsar Nicholas could then use the returning soldiers to help him control any revolutionary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4221000"/>
            <a:ext cx="59036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as their any real change after the 1905 revolu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The Tsar was the one who controlled the Duma through the Fundamental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Stolypin’s reforms brought some improvements but they weren’t seen by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Tsar still relied on terror to control the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But the Dumas may have given Russians confidence that things would change…event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24000" y="1557360"/>
            <a:ext cx="8497800" cy="4968720"/>
            <a:chOff x="324000" y="1557360"/>
            <a:chExt cx="8497800" cy="4968720"/>
          </a:xfrm>
        </p:grpSpPr>
        <p:grpSp>
          <p:nvGrpSpPr>
            <p:cNvPr id="60" name=""/>
            <p:cNvGrpSpPr/>
            <p:nvPr/>
          </p:nvGrpSpPr>
          <p:grpSpPr>
            <a:xfrm>
              <a:off x="324000" y="1557360"/>
              <a:ext cx="8497800" cy="4968720"/>
              <a:chOff x="324000" y="1557360"/>
              <a:chExt cx="8497800" cy="4968720"/>
            </a:xfrm>
          </p:grpSpPr>
          <p:sp>
            <p:nvSpPr>
              <p:cNvPr id="61" name=""/>
              <p:cNvSpPr/>
              <p:nvPr/>
            </p:nvSpPr>
            <p:spPr>
              <a:xfrm>
                <a:off x="324000" y="1557360"/>
                <a:ext cx="8497800" cy="4968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2" name="" descr="">
                <a:hlinkClick r:id="rId1"/>
              </p:cNvPr>
              <p:cNvPicPr/>
              <p:nvPr/>
            </p:nvPicPr>
            <p:blipFill>
              <a:blip r:embed="rId2"/>
              <a:stretch/>
            </p:blipFill>
            <p:spPr>
              <a:xfrm>
                <a:off x="2629080" y="1557360"/>
                <a:ext cx="4248000" cy="4968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3" name=""/>
            <p:cNvSpPr/>
            <p:nvPr/>
          </p:nvSpPr>
          <p:spPr>
            <a:xfrm>
              <a:off x="468360" y="2060640"/>
              <a:ext cx="20876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ake 5 minutes to discuss this in your gro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948360" y="4508640"/>
              <a:ext cx="1870200" cy="177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You must give a yes or no answ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o not sit on the fence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escribe Tsar Nicholas’ control over the Duma (When they were elected, how long they lasted and why they were dissolv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successful were Stolypin’s refroms? (Explain your answer in detai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verall, how successful had the 1905 revolution be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3384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50920" y="3645000"/>
            <a:ext cx="8642160" cy="3002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04000" y="18900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08720" y="364500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8T09:32:01Z</dcterms:created>
  <dc:creator>sthcantleyn1</dc:creator>
  <dc:description/>
  <dc:language>en-US</dc:language>
  <cp:lastModifiedBy>sthcantleyn1</cp:lastModifiedBy>
  <dcterms:modified xsi:type="dcterms:W3CDTF">2013-08-28T10:12:05Z</dcterms:modified>
  <cp:revision>3</cp:revision>
  <dc:subject/>
  <dc:title>Aftermath of the 1905 Revolution</dc:title>
</cp:coreProperties>
</file>